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9FB-D90C-4D86-BF2D-6E5E92CD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EB8-F922-480B-B246-82443EE8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EED2-D96A-4C72-BEEC-70D4EA9C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5E8-2C93-4288-8124-B1AE49955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4CEA-2D22-4654-A4D7-D54BB282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91F-F520-48BF-9AE2-8E032028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AF0F-D37E-4E7D-9DF8-3CB89AFD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5899-7448-4502-9F7F-975CD743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2E4B-FE3B-4A75-8443-A18684FD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4A3-D668-42C3-85C0-F0834D9F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5B17-AE82-4B4E-9C8E-3E164BAC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01F-4F5D-4DF1-BDC4-485A306E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DF4F-4C99-4538-A2FF-775766F80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33920" y="304920"/>
            <a:ext cx="16002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Great great grandf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066680"/>
            <a:ext cx="11430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Great grandf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1066680"/>
            <a:ext cx="114300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Great grandf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67280" y="281952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05720" y="281952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43800" y="281952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33526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30481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3048120"/>
            <a:ext cx="381240" cy="3045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67480" y="335268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33526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365760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67480" y="3962520"/>
            <a:ext cx="381240" cy="3045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67480" y="426708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endCxn id="45" idx="0"/>
          </p:cNvCxnSpPr>
          <p:nvPr/>
        </p:nvCxnSpPr>
        <p:spPr>
          <a:xfrm>
            <a:off x="6819480" y="2209680"/>
            <a:ext cx="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" name=""/>
          <p:cNvCxnSpPr>
            <a:stCxn id="41" idx="2"/>
            <a:endCxn id="42" idx="0"/>
          </p:cNvCxnSpPr>
          <p:nvPr/>
        </p:nvCxnSpPr>
        <p:spPr>
          <a:xfrm flipH="1">
            <a:off x="3466800" y="762120"/>
            <a:ext cx="106740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41" idx="2"/>
            <a:endCxn id="43" idx="0"/>
          </p:cNvCxnSpPr>
          <p:nvPr/>
        </p:nvCxnSpPr>
        <p:spPr>
          <a:xfrm>
            <a:off x="4533840" y="762120"/>
            <a:ext cx="106704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43" idx="2"/>
          </p:cNvCxnSpPr>
          <p:nvPr/>
        </p:nvCxnSpPr>
        <p:spPr>
          <a:xfrm>
            <a:off x="5600520" y="1523880"/>
            <a:ext cx="12200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42" idx="2"/>
          </p:cNvCxnSpPr>
          <p:nvPr/>
        </p:nvCxnSpPr>
        <p:spPr>
          <a:xfrm flipH="1">
            <a:off x="2399760" y="1523880"/>
            <a:ext cx="10674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1752480" y="281952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289548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81952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endCxn id="61" idx="0"/>
          </p:cNvCxnSpPr>
          <p:nvPr/>
        </p:nvCxnSpPr>
        <p:spPr>
          <a:xfrm>
            <a:off x="2400120" y="2285640"/>
            <a:ext cx="36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endCxn id="62" idx="0"/>
          </p:cNvCxnSpPr>
          <p:nvPr/>
        </p:nvCxnSpPr>
        <p:spPr>
          <a:xfrm>
            <a:off x="2400120" y="2286000"/>
            <a:ext cx="5338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endCxn id="60" idx="0"/>
          </p:cNvCxnSpPr>
          <p:nvPr/>
        </p:nvCxnSpPr>
        <p:spPr>
          <a:xfrm flipH="1">
            <a:off x="1866600" y="2286000"/>
            <a:ext cx="5342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"/>
          <p:cNvSpPr/>
          <p:nvPr/>
        </p:nvSpPr>
        <p:spPr>
          <a:xfrm>
            <a:off x="1676520" y="30481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33526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0481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33526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09680" y="342900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36576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312408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36576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39625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3733920"/>
            <a:ext cx="381240" cy="3045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403848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480060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0481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05920" y="30481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05920" y="3352680"/>
            <a:ext cx="304560" cy="304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1905120"/>
            <a:ext cx="53352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29000" y="1905120"/>
            <a:ext cx="53352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42" idx="2"/>
            <a:endCxn id="82" idx="0"/>
          </p:cNvCxnSpPr>
          <p:nvPr/>
        </p:nvCxnSpPr>
        <p:spPr>
          <a:xfrm>
            <a:off x="3466800" y="1523880"/>
            <a:ext cx="229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42" idx="2"/>
          </p:cNvCxnSpPr>
          <p:nvPr/>
        </p:nvCxnSpPr>
        <p:spPr>
          <a:xfrm>
            <a:off x="3466800" y="1523880"/>
            <a:ext cx="9154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990720" y="281952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1880" y="281952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1905120"/>
            <a:ext cx="53352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1" idx="0"/>
            <a:endCxn id="42" idx="2"/>
          </p:cNvCxnSpPr>
          <p:nvPr/>
        </p:nvCxnSpPr>
        <p:spPr>
          <a:xfrm flipV="1">
            <a:off x="1104840" y="1523880"/>
            <a:ext cx="23623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42" idx="2"/>
            <a:endCxn id="87" idx="0"/>
          </p:cNvCxnSpPr>
          <p:nvPr/>
        </p:nvCxnSpPr>
        <p:spPr>
          <a:xfrm>
            <a:off x="3466800" y="1523880"/>
            <a:ext cx="16009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0" name=""/>
          <p:cNvSpPr/>
          <p:nvPr/>
        </p:nvSpPr>
        <p:spPr>
          <a:xfrm>
            <a:off x="3505320" y="30481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30481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91120" y="30481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33526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36576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33526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3526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2" idx="2"/>
            <a:endCxn id="90" idx="0"/>
          </p:cNvCxnSpPr>
          <p:nvPr/>
        </p:nvCxnSpPr>
        <p:spPr>
          <a:xfrm>
            <a:off x="3695760" y="2286000"/>
            <a:ext cx="3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endCxn id="92" idx="0"/>
          </p:cNvCxnSpPr>
          <p:nvPr/>
        </p:nvCxnSpPr>
        <p:spPr>
          <a:xfrm>
            <a:off x="4381200" y="2285640"/>
            <a:ext cx="7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87" idx="2"/>
            <a:endCxn id="91" idx="0"/>
          </p:cNvCxnSpPr>
          <p:nvPr/>
        </p:nvCxnSpPr>
        <p:spPr>
          <a:xfrm>
            <a:off x="5067360" y="2286000"/>
            <a:ext cx="3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3581280" y="281952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281952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2819520"/>
            <a:ext cx="228600" cy="228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60958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60958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609588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48006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48006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4800600"/>
            <a:ext cx="381240" cy="304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29600" y="1905120"/>
            <a:ext cx="53352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553080" y="1905120"/>
            <a:ext cx="53352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1905120"/>
            <a:ext cx="53316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1320" y="3048120"/>
            <a:ext cx="380880" cy="30456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391520" y="1905120"/>
            <a:ext cx="53316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09" idx="2"/>
            <a:endCxn id="86" idx="0"/>
          </p:cNvCxnSpPr>
          <p:nvPr/>
        </p:nvCxnSpPr>
        <p:spPr>
          <a:xfrm flipH="1">
            <a:off x="8496000" y="2286000"/>
            <a:ext cx="72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113" idx="2"/>
            <a:endCxn id="46" idx="0"/>
          </p:cNvCxnSpPr>
          <p:nvPr/>
        </p:nvCxnSpPr>
        <p:spPr>
          <a:xfrm>
            <a:off x="7657920" y="2286000"/>
            <a:ext cx="3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43" idx="2"/>
            <a:endCxn id="109" idx="0"/>
          </p:cNvCxnSpPr>
          <p:nvPr/>
        </p:nvCxnSpPr>
        <p:spPr>
          <a:xfrm>
            <a:off x="5600520" y="1523880"/>
            <a:ext cx="28962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43" idx="2"/>
            <a:endCxn id="113" idx="0"/>
          </p:cNvCxnSpPr>
          <p:nvPr/>
        </p:nvCxnSpPr>
        <p:spPr>
          <a:xfrm>
            <a:off x="5600520" y="1523880"/>
            <a:ext cx="20577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5715000" y="1905120"/>
            <a:ext cx="53352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8" idx="2"/>
            <a:endCxn id="44" idx="0"/>
          </p:cNvCxnSpPr>
          <p:nvPr/>
        </p:nvCxnSpPr>
        <p:spPr>
          <a:xfrm flipH="1">
            <a:off x="5981400" y="2286000"/>
            <a:ext cx="72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43" idx="2"/>
            <a:endCxn id="118" idx="0"/>
          </p:cNvCxnSpPr>
          <p:nvPr/>
        </p:nvCxnSpPr>
        <p:spPr>
          <a:xfrm>
            <a:off x="5600520" y="1523880"/>
            <a:ext cx="38160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4114800" y="1905120"/>
            <a:ext cx="533520" cy="3808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81" idx="2"/>
            <a:endCxn id="85" idx="0"/>
          </p:cNvCxnSpPr>
          <p:nvPr/>
        </p:nvCxnSpPr>
        <p:spPr>
          <a:xfrm>
            <a:off x="1104840" y="2286000"/>
            <a:ext cx="36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191120" y="48006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4600" y="35812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380988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5715000"/>
            <a:ext cx="380880" cy="304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6095880"/>
            <a:ext cx="304560" cy="304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5791320"/>
            <a:ext cx="63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22560" y="609588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daugh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13:46:41Z</dcterms:created>
  <dc:creator>Unibank A/S</dc:creator>
  <dc:description/>
  <dc:language>en-US</dc:language>
  <cp:lastModifiedBy>Unibank A/S</cp:lastModifiedBy>
  <cp:lastPrinted>2000-02-23T21:03:24Z</cp:lastPrinted>
  <dcterms:modified xsi:type="dcterms:W3CDTF">2000-07-02T21:04:25Z</dcterms:modified>
  <cp:revision>7</cp:revision>
  <dc:subject/>
  <dc:title>Ingen diastitel</dc:title>
</cp:coreProperties>
</file>