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5C6E-B151-413F-A7AA-C9F82FFF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8FD-7F4F-4583-874B-78996AB2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C19E-CCB8-4F93-9AD8-BE487D68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A41A-486D-471B-8618-80578FB7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AEE1-3CB5-487E-8266-FC93CA6D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629-CD36-4228-B6C1-52AD57254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AFB-04B6-4A06-AF5D-D3175C3D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1E20-7C91-4691-A69C-7C2F6B1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414B-A2FD-4A48-A7B2-E4B9279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EA62-1E30-4743-AD05-DD615D7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818-BB7C-4592-BB86-FFD8969E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0C7A-19A4-45C7-8FFA-4EDD7177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1E542-4C66-402C-999D-7775462AA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16765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914400"/>
            <a:ext cx="9144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914400"/>
            <a:ext cx="914400" cy="762120"/>
          </a:xfrm>
          <a:prstGeom prst="flowChart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05520" y="914400"/>
            <a:ext cx="9144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934320" y="914400"/>
            <a:ext cx="9144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20574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9810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32767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1280" y="46483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29718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46483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7339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98108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289548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365760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33720" y="457200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19051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27432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62720" y="36576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46483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91520" y="18288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91520" y="25146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32004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388620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391520" y="4648320"/>
            <a:ext cx="457200" cy="30456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1905120"/>
            <a:ext cx="30456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2520" y="320040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2520" y="4572000"/>
            <a:ext cx="30456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905120"/>
            <a:ext cx="30492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57800" y="27432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2819520"/>
            <a:ext cx="609480" cy="22860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2590920"/>
            <a:ext cx="30492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358128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72400" y="243828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12408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457200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5410080"/>
            <a:ext cx="9144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1680" y="5334120"/>
            <a:ext cx="9144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638680"/>
            <a:ext cx="457200" cy="304920"/>
          </a:xfrm>
          <a:prstGeom prst="triangle">
            <a:avLst>
              <a:gd name="adj" fmla="val 50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5562720"/>
            <a:ext cx="304920" cy="3045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72400" y="1752480"/>
            <a:ext cx="304920" cy="304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/>
          <p:nvPr/>
        </p:nvCxnSpPr>
        <p:spPr>
          <a:xfrm flipV="1">
            <a:off x="2437920" y="3580560"/>
            <a:ext cx="11437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56" idx="6"/>
            <a:endCxn id="46" idx="1"/>
          </p:cNvCxnSpPr>
          <p:nvPr/>
        </p:nvCxnSpPr>
        <p:spPr>
          <a:xfrm flipV="1">
            <a:off x="2438280" y="1295640"/>
            <a:ext cx="686160" cy="838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69" idx="6"/>
            <a:endCxn id="47" idx="1"/>
          </p:cNvCxnSpPr>
          <p:nvPr/>
        </p:nvCxnSpPr>
        <p:spPr>
          <a:xfrm flipV="1">
            <a:off x="4267080" y="1295280"/>
            <a:ext cx="83880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0" idx="6"/>
            <a:endCxn id="47" idx="1"/>
          </p:cNvCxnSpPr>
          <p:nvPr/>
        </p:nvCxnSpPr>
        <p:spPr>
          <a:xfrm flipV="1">
            <a:off x="4267080" y="1295280"/>
            <a:ext cx="838800" cy="2058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57" idx="5"/>
            <a:endCxn id="51" idx="2"/>
          </p:cNvCxnSpPr>
          <p:nvPr/>
        </p:nvCxnSpPr>
        <p:spPr>
          <a:xfrm>
            <a:off x="2393640" y="3155760"/>
            <a:ext cx="118800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46" idx="3"/>
            <a:endCxn id="72" idx="2"/>
          </p:cNvCxnSpPr>
          <p:nvPr/>
        </p:nvCxnSpPr>
        <p:spPr>
          <a:xfrm>
            <a:off x="4038480" y="1295640"/>
            <a:ext cx="1219680" cy="762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3" idx="2"/>
            <a:endCxn id="46" idx="3"/>
          </p:cNvCxnSpPr>
          <p:nvPr/>
        </p:nvCxnSpPr>
        <p:spPr>
          <a:xfrm flipH="1" flipV="1">
            <a:off x="4038480" y="1295640"/>
            <a:ext cx="1219680" cy="160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" name=""/>
          <p:cNvCxnSpPr>
            <a:stCxn id="62" idx="0"/>
            <a:endCxn id="75" idx="5"/>
          </p:cNvCxnSpPr>
          <p:nvPr/>
        </p:nvCxnSpPr>
        <p:spPr>
          <a:xfrm flipH="1" flipV="1" rot="5400000">
            <a:off x="5822640" y="2819160"/>
            <a:ext cx="807120" cy="870120"/>
          </a:xfrm>
          <a:prstGeom prst="curvedConnector3">
            <a:avLst>
              <a:gd name="adj1" fmla="val 2115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" name=""/>
          <p:cNvCxnSpPr>
            <a:stCxn id="76" idx="6"/>
          </p:cNvCxnSpPr>
          <p:nvPr/>
        </p:nvCxnSpPr>
        <p:spPr>
          <a:xfrm flipV="1">
            <a:off x="6248520" y="1676160"/>
            <a:ext cx="1143360" cy="2058120"/>
          </a:xfrm>
          <a:prstGeom prst="curvedConnector3">
            <a:avLst>
              <a:gd name="adj1" fmla="val 2532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" name=""/>
          <p:cNvCxnSpPr>
            <a:stCxn id="71" idx="6"/>
            <a:endCxn id="48" idx="0"/>
          </p:cNvCxnSpPr>
          <p:nvPr/>
        </p:nvCxnSpPr>
        <p:spPr>
          <a:xfrm flipV="1">
            <a:off x="4267080" y="914400"/>
            <a:ext cx="3124800" cy="3810600"/>
          </a:xfrm>
          <a:prstGeom prst="curvedConnector4">
            <a:avLst>
              <a:gd name="adj1" fmla="val 53347"/>
              <a:gd name="adj2" fmla="val 10002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46" idx="0"/>
            <a:endCxn id="77" idx="6"/>
          </p:cNvCxnSpPr>
          <p:nvPr/>
        </p:nvCxnSpPr>
        <p:spPr>
          <a:xfrm flipH="1" rot="16200000">
            <a:off x="4991040" y="-495720"/>
            <a:ext cx="1676880" cy="4496400"/>
          </a:xfrm>
          <a:prstGeom prst="curvedConnector4">
            <a:avLst>
              <a:gd name="adj1" fmla="val -107"/>
              <a:gd name="adj2" fmla="val 10002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78" idx="6"/>
          </p:cNvCxnSpPr>
          <p:nvPr/>
        </p:nvCxnSpPr>
        <p:spPr>
          <a:xfrm flipV="1">
            <a:off x="8077320" y="1675800"/>
            <a:ext cx="228960" cy="1601280"/>
          </a:xfrm>
          <a:prstGeom prst="curvedConnector3">
            <a:avLst>
              <a:gd name="adj1" fmla="val 2661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7" name=""/>
          <p:cNvSpPr/>
          <p:nvPr/>
        </p:nvSpPr>
        <p:spPr>
          <a:xfrm>
            <a:off x="8610480" y="1828800"/>
            <a:ext cx="22860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4" idx="6"/>
            <a:endCxn id="97" idx="1"/>
          </p:cNvCxnSpPr>
          <p:nvPr/>
        </p:nvCxnSpPr>
        <p:spPr>
          <a:xfrm flipV="1">
            <a:off x="8077320" y="1904760"/>
            <a:ext cx="533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534520" y="4648320"/>
            <a:ext cx="228600" cy="152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79" idx="6"/>
            <a:endCxn id="99" idx="1"/>
          </p:cNvCxnSpPr>
          <p:nvPr/>
        </p:nvCxnSpPr>
        <p:spPr>
          <a:xfrm flipV="1">
            <a:off x="8077320" y="4724280"/>
            <a:ext cx="45756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62" idx="3"/>
            <a:endCxn id="83" idx="0"/>
          </p:cNvCxnSpPr>
          <p:nvPr/>
        </p:nvCxnSpPr>
        <p:spPr>
          <a:xfrm>
            <a:off x="5791320" y="3962520"/>
            <a:ext cx="457560" cy="1600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9" idx="4"/>
            <a:endCxn id="80" idx="0"/>
          </p:cNvCxnSpPr>
          <p:nvPr/>
        </p:nvCxnSpPr>
        <p:spPr>
          <a:xfrm flipH="1">
            <a:off x="1981080" y="4876920"/>
            <a:ext cx="305280" cy="533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9T11:04:52Z</dcterms:created>
  <dc:creator>Unibank A/S</dc:creator>
  <dc:description/>
  <dc:language>en-US</dc:language>
  <cp:lastModifiedBy>Unibank A/S</cp:lastModifiedBy>
  <cp:lastPrinted>2000-02-23T21:09:00Z</cp:lastPrinted>
  <dcterms:modified xsi:type="dcterms:W3CDTF">2000-07-02T21:03:41Z</dcterms:modified>
  <cp:revision>6</cp:revision>
  <dc:subject/>
  <dc:title>Ingen diastitel</dc:title>
</cp:coreProperties>
</file>