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C3F-8DC0-4F76-ACF0-AB428564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58-91E7-4F7C-9EE8-9445BA4E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02E-79F0-42C9-BD6C-B9605254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6CF-7337-45D4-9602-A4F136B4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5820-7DD2-4784-BCC6-2AFA489CC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B03D-BF7B-4AE2-997C-88CB065A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2A38-34F0-4F65-9E79-6FE2FB7C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1F8-DC9B-46F7-87AF-2B5D6A85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AC18-196A-49AF-ACCF-3BC52A71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942-0C51-40C8-B8E4-0911699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6A88-F4C7-4FED-828E-76CC1D87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3554-E708-4358-81B3-6ABCEFE7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335-405D-4DB5-8F0D-648930A08B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590920"/>
            <a:ext cx="708660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3657600"/>
            <a:ext cx="708660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724280"/>
            <a:ext cx="70866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5791320"/>
            <a:ext cx="7086600" cy="838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om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vege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28195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886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mil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388620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fee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man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952880"/>
            <a:ext cx="615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4952880"/>
            <a:ext cx="615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wee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15200" y="4952880"/>
            <a:ext cx="615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rv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62520" y="2666880"/>
            <a:ext cx="1077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62520" y="3733920"/>
            <a:ext cx="1077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Livest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4876920"/>
            <a:ext cx="1155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Sharecro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5943600"/>
            <a:ext cx="1231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Wage lab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6019920"/>
            <a:ext cx="615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rv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6019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9528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er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prepa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9528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irriga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an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88620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6019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govern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me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1523880"/>
            <a:ext cx="7086600" cy="838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6765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Dome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rv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2819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rv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304920" cy="297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724280"/>
            <a:ext cx="3049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1752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cook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1752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clea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752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wash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1752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childc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156800">
            <a:off x="220680" y="282744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On f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6150800">
            <a:off x="204840" y="551664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Off fa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6019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arves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49528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help i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other tas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1066680"/>
            <a:ext cx="2819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Male 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066680"/>
            <a:ext cx="28954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Female t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2:50:50Z</dcterms:created>
  <dc:creator>Unibank A/S</dc:creator>
  <dc:description/>
  <dc:language>en-US</dc:language>
  <cp:lastModifiedBy>Unibank A/S</cp:lastModifiedBy>
  <dcterms:modified xsi:type="dcterms:W3CDTF">2000-07-02T21:05:16Z</dcterms:modified>
  <cp:revision>11</cp:revision>
  <dc:subject/>
  <dc:title>Ingen diastitel</dc:title>
</cp:coreProperties>
</file>